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F6E3-0316-4E65-B81D-109002F7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53BA-4B05-436C-954F-0D147E49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3AF36-D261-4ADB-80F3-1D00A5D9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7D277-7301-422C-B6CC-292CC94A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D71C7-7656-4A75-B44F-E928F6E7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C77CD-3B00-478C-BEB7-CC68B9F7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13468-0E0F-4A3C-B21F-97CEC93A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AE58A-2464-408B-BD64-52692BF9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E9FA5-1686-411B-AECE-77D272AA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6B461-52E4-4236-ADAC-8777DCC3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9A187-A786-4DED-AAE7-3FEA9651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0E717-DD50-48AE-B24D-58BCA9CB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F974-0DD1-4A4F-985B-785640B99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9A9D1-CD40-441D-BFEA-30305DF3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2719F-479D-4372-9226-54BE7AD5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3A8A4-AADD-4ECB-AD88-428F71EC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B107F-5944-44F5-A45D-DA0CEF71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1CB73-9970-452F-BBE9-651335A8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AFE7C-5049-46B6-8B3A-381C5AAF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49231-4AC2-45E2-8EC7-C20C32B8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DB612-81F7-4257-A896-68846A41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9068A-FB67-414C-AB39-2AA78D76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D692D-3B32-45E9-980B-AE4AE543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6191-D6CA-4246-B45B-E712BF56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45B2F-6A01-440C-8239-854E739B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D94BF-8AC4-4D6B-A152-B5C01F93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D115F-7958-46F1-892A-EF2A18B2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7D6EB-F832-4941-9D86-FEF7E5F4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521CB-96C3-4DC4-BBA8-0F9662AD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FA0A3-FAFA-4003-AE15-898EAE3A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9ADC0-F0C3-463E-8F86-42EA7E25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C798F-2A98-4FB6-8CB2-79888971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650B3-CCEA-4FC1-8468-E09E1AEB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8E65E-9A48-4403-B433-0029897D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E671-8A65-4A31-8251-14A6B364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F4D57-3ED7-46A9-8139-591B5055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DD195-FCA9-41BD-9D48-53297881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B3CD2-0FA4-4CCC-9744-E91458166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5F157-56F9-4C6F-974D-769F6F56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92D91-A48E-473D-8B62-D332644E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3E4EF-175B-4201-B8DD-087BE63A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852F1-0FD1-4956-8656-FD5E3353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10BAD-C0BF-42EC-9825-7E84DE10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0E3C3-8190-43DE-8F59-C1DE6065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093BE-66F1-483C-9BF7-97711882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F4BE-8AF3-4481-B6E6-214806DF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320AF-178A-4724-8AFD-5E2B829C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843C0-2F94-44FD-9640-D7E00504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B85E2-DD18-429C-95B7-35D51B2E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E2292-F8C5-47E7-9FA1-4FAF0381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12BC2-953A-4DBA-A158-D0CE8F56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B3B98E-0CE4-42BF-8E29-497CE9E7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A840A-ACF2-4068-8F69-ED892809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935FD6-CFFC-42F1-8858-145D56C0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C9C95-0835-4CF1-BDF6-287B1FAB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8201B1-365C-4D3C-B6F6-547376E8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8960-664C-4B28-AB39-B48E8886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6E8F30-1132-470A-B3F0-7B8D100B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E01D71-4AAE-4977-882F-BE3BF380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28B6D-59BB-4859-9892-B6482B03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B87E9B-16E4-4DC9-8CC3-5704CCB4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585C37-DFB7-4382-98C5-5FDFA703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E8F623-4B2C-460B-BAD5-03030B43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F71B9C-AFD8-4112-8A76-874B8829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6141D9-A753-460C-BD81-8ED15BDA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8AA2B5-0739-4EDE-9B0F-4B0DD97F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02DD89-9577-4906-A648-7F861230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4DFC-587F-4DD3-9A8E-5F78D801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AC5FA8-6679-43CF-80D2-63762C15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DD26A8-AA6C-493B-98B6-60E751BD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84B883-4085-4E98-9E20-5E148C69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CC3F5B-5668-4D2E-A028-86D51D6C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7AD971-0337-44B2-9A91-D98E6AC9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68022A-11D6-4BF6-A8C1-F7A0AE3B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6FAFEB-77CA-4B4E-BC22-DCE69D8B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B0F5CF-0504-4EF4-96B5-18681728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2FFF01-067F-40FC-B8DB-CFB8A01B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884AAD-D551-4AD5-BA5E-CBB46AA7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9769-CF28-4A60-B182-15482F30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03CB19-47C9-491E-81B9-93B86352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37E4F0-8490-4582-96BF-C9965E24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41666B-B658-4493-8C4C-27E44135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F09DA1-CE0F-49D1-A6C9-8956629B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CC0827-EFF4-4A15-9845-934F77FF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EAB64B-B623-4DEA-A8F1-EF70AA85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545967-6179-4E35-824B-7D2BA36D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6A2663-2391-41BA-B5DB-D0E1B90D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D6F924-8BD7-419E-9599-3FBD023D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D7B6AC-F5C6-4B96-8AA8-F9E3B85C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9A48-037E-4D2A-A81F-179C25EF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DDE10D-EF05-4D89-BFB4-5DE52AF5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ADE427-539A-4858-84CC-1D80C62B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4F86E5-096D-429B-A439-64B06987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2D5EB2-628F-4F0A-97B7-3FBDC76E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0206F1-4D81-4D0A-AF03-83900A13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772B95-D5A1-427C-9650-286985F5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9DA5B5-FF29-482B-9596-972D1C15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5C13C4-3BE9-46F8-89EA-3BD07F36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DBE66D-1386-42E5-9424-8BA0748F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8DA51F-8F01-41F5-8122-19C1BB2B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4AB3-078A-4F77-8CFA-57350A8F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5432FC-2023-428E-9267-C51EE139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B0F2D6-2F38-4EE7-B447-17AAF5E0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CB02E1-795B-4C86-8B22-9758D840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BC8AB3-2018-4972-A802-DD844668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68B546-847D-4214-BD9B-68F7D47F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8F02BA-363D-48CA-93D2-9FD2CC80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E35393-0DC4-45B3-801F-E64A2A15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9A0342-9167-46E9-AB55-7D05AAE0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C6EEA9-2FD7-425E-A01B-E597BAA5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CABA6D-0636-44DC-B00B-C754E17A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830B-188B-4154-A052-727BFF40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7631-5F9C-4F52-AF10-99515BC5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9B0C8B-4CB2-49F3-9594-CAAB240E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DBFBFD-5EBA-4CAE-A734-A0F3DFC8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13D4D7-6731-43E5-AA71-689DC6FE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B580C3-06CC-4B59-9EE4-734FA2CF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DACB7B-D7B6-47BA-8882-18C18FAE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63763D-9E4D-48DB-9ACA-2EAE995E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0B3030-33D4-444F-8FEE-2A7D2EA3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BA01A6-7C1C-41D5-AC4E-66C0AF04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4C2B57-D150-4B6B-8E0B-8BC53624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96FB40-AFF0-4481-9B94-6CF907B8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FB56-5F25-4ECD-B11B-EDF752AA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219E60-A80E-4018-A396-5275BCEE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9386B3-932C-496B-A63C-72118F37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744BD3-8E08-41F7-ADAF-1D5D2A20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2F45C3-C8D7-41A0-88FC-A2B2589B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CC1993-DBB3-4729-B952-EAACDAD0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9A12FB-CA75-4D30-B349-98AE7250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6B1B22-2CE0-4DC5-B55F-3E171F8C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325392-F529-406D-B294-46CEEF21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E205F3-0498-4044-BCEB-06CD66A9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164D7D-206F-4FC8-8A50-C6FBE544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53E3-BE9F-4421-88DA-BF8E7496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FF6C9B-4808-45F2-9A40-2BBC829B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67BC09-7AB1-4EFD-A803-2DB8BB39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F678FB-CB65-4050-B5FB-72D4FEB9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D08B50-E09C-4E85-9538-5E0D8BCC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7FC1A7-CA07-42D5-BBB9-E4EBDEC7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3267F8-028D-444C-9E84-438ADCE7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A9CE22-BF93-49D7-BCC0-BE93A02D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DE17E4-4F39-4CAE-80B0-5AF0F6EF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901AF2-DBE6-4DEF-8592-FCA67B4B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F00EB1-2741-4ABB-B6A4-79F52DE0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84C7-EF25-47EF-A3F2-4D685340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AF3A6A-5AF9-4F90-9176-42E5143B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E4D85C-7979-4495-867A-10EC7451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54CD08-3385-4F33-BF5E-E5BCB34F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96834A-C9EF-47DF-8519-3CB736C2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A86EC1-BB39-473B-BF20-E6FF3223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7C87A5-5FBE-4684-848D-69D1BB6D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BE7A5E-62CD-4152-86DD-9DA2F15C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06A288-BAB6-47AF-AC48-6A2F4146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34CA9C-ED75-498F-9467-13DE30B7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C83005-F345-4E64-B205-7F8F9862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37AE-3190-46CE-A864-A6BC89F4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A18923-D816-489C-9B9D-27A926F8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1FE689-9A7C-4FA2-8EAE-184E153A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0B0A88-99E5-4A5A-B266-21FDA992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D965A3-FEFF-4367-810C-81F5BBFD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4CD117-8FD2-4066-A549-0D761E62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634CE3-073C-45AA-943F-DB89D1F0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75D687-ACBA-4381-A6D5-44EB267A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CB4AED-A7AA-4E9C-98D2-29338AC4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C99D1E-0939-49E7-8238-E0F856B5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1ED2BA-D344-48C6-B246-1688051F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7E15A-6F55-4F03-8C13-64D3EA74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330C11-FF40-4AD8-8C26-7981B582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FDFA9D-6876-4D65-B8FC-5756132E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7654D1-9007-40DD-845D-F4671FA0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7CAC3-174D-4444-9585-18813301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28D26-35FA-4135-9003-8D3FEFE1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5D7A8-6D78-42D5-A1D1-145AD7B6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9D88C-4561-4264-BB88-F6D3681D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277D-2C00-4081-872C-BC976D0B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04B4F-243F-4E19-878B-485E1C1E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59659-9484-48DD-95A9-C0688B13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D4E81-075F-438E-ADBD-FD4E9FC7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4C75D-A19B-4B0E-9757-241AFC64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09965-21A6-49FB-885B-1AE93E9D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252CF-5998-4955-BCDE-0BF177DA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3149B-6405-44D4-95FE-4A670F86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3957C-83AA-4090-AAEF-90176832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13B99-0098-4BC4-BAF3-B3152883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E9B16-494E-4661-8712-234CD84F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4516-12D2-431A-A720-F1BEEBF1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3D977-99E4-48E5-BF57-40308B3D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3FEB4-41EB-4B39-B995-C7B3B660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D54F4-3899-4876-B7AE-C0140875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A10C6-B37F-409D-BE68-2E55F2CD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56C55-C8FD-4CF2-8F6B-655E8070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C4F42-905D-416C-BA25-D6EEA9FD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D43FD-C7C4-49FC-B2DF-B12F6C3F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68B5C-CDE5-4839-9530-DD40154A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15F7D-107C-4511-876D-BA801A9A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0E9A9-2F80-4331-908A-0F974976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2A9C-BB12-471D-B511-40800CF7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D3070-7166-48C7-826B-88B975FC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0A2F6-D4F5-40CE-BBBF-F14D4436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57E1D-FAAA-4254-875A-6C095A5D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EE66F-EE0D-4A03-9F17-4FEF2631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D5430-E568-4A31-8CB7-0F35A996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92C66-B1CA-4E04-B27C-598A5D3A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1CD50-B935-4C5E-A9EA-45713AB3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FCE28-1A97-4FA6-86DE-A4B98FDD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C69DE-3DE8-40FB-B7AF-F33FBC81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7CE0E-498D-43C9-9FFC-3C45CA99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B37F-DA5B-48C5-8B5C-E99B3617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2BFCD-3D8C-40BE-898C-F4FAD77F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996F6-FD69-422D-B055-E20F400A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9E3C4-1652-4CAA-913B-77543583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FDC99-CDE1-41F2-91E1-797452BB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049A7-5604-4DCF-8922-46BB2CF4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5134E-9A1B-45FE-98A0-241D2CB5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259A0-D836-4B48-A663-1707DF1E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3CB0E-9265-4EE5-855A-7EE0DBA6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91589-AF46-462A-BB9C-FF06301B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7AC2D-535E-4A64-A60C-E241C44A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F1FA-1634-440F-B540-FD4F0288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E92F4-5FA2-46FC-923B-FB881540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62C94-F826-4F5D-B61F-36B0BCC9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4D908-D10C-4205-AA8C-595CCE9B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5D194-3A44-4D6A-A877-3ABBB7C3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6E737-F568-41A3-AF09-35F80B79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C3201-58D5-4A2E-9679-DAE1BAEA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0E54E-736E-418C-8DB8-449DC4F7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4FD6E-8755-463F-A112-CB1CE3A6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2CE9B-0C41-4770-BC3B-CEA69A30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27622-14B6-455F-9243-5FA8965A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BE9A-AC82-4C9D-933D-902580F1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1890F-785F-4822-B45E-68EB8B91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05D1C-2AA8-412D-9837-26A506BB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E0DE3-4F22-4D16-968D-0C9A8810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15815-45FD-4DA7-B142-42B9EB46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940F7-4BB4-4303-A7F0-F98B50CE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E4BF8-0512-48A2-87DB-47E55E34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2CC30-4D98-4C45-A281-C4ECAB07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9888E-E153-4A27-A8B7-40F433E0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0284E-F626-4F2C-9C97-6871047F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6C431-6F12-4490-B162-F38299E5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7587-45A2-4462-9B95-1FCE8BF1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A892E-537D-4760-BACE-52466B8B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6C050-1F52-4C6B-95F1-069B758D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169C9-DA64-4069-A623-BF1DB130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2200C-24C6-4485-950A-63BE1441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9BABD-7E9B-400C-9645-02A8223E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9F06D-C920-4728-BEBE-4B6A91BA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C6E5D-03F9-4DB9-AACB-A3D4CD75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FF8FB-EC47-4B1A-94BA-51F6A90A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9191D-027D-4075-8559-0BDF1AB9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A38E7-4C76-42A9-81A4-BACDCB78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B21B-C75F-4744-B61B-C6B6F62E24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5707-8A1A-4468-AAF8-B4F772E424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AD07-F1A8-4794-A09F-7EADE6EF82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D440-056D-4321-BDB8-7408E87DC0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5895-626B-4272-9AA7-54233D3054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277D-0E24-4F86-8C29-35BEAF0005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D2FD-F1A0-410A-AB04-44B08DE41F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ED6C-AA35-4C9B-831B-8AFC75727A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5BF5-D38F-42A3-B38E-CD2AF8118D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1710-FF44-43AA-9738-2E5F13C02A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CDB7-F6BE-46E5-BFD4-02F3527B9D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5387-0748-41AB-8224-770D0C0896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AB0B-5433-42CA-997D-D86C2640F4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2398-ACFD-4381-93E2-B80CE35FA7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7EC3-D01B-4D77-B44A-BBC15F7E25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5D5F-6061-43C4-BFCA-6F9EA42FBA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4376-95CD-4F28-B99A-EEFCA7F3ED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C543-1943-4CF1-9961-FD96D71027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87BB-4788-4F10-A8F0-61E96480A7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BD98-1C15-46A3-8A42-E1F14D50CF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F5EF-BA11-4444-AE23-E4D7CBFDA4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6888-816A-40C0-9DA6-A799F03B49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3C06-DD41-4AB9-A93E-13AFE32030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E1D7-C3AC-4E4C-9C49-2289DE932F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C792-9A99-41C4-BD84-B77C7A6504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BC50-E583-4F32-A848-B45F7899D8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E872-071E-4B2B-9C25-29779E9E6C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FF9B-071B-4A20-AC94-058243FB69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6C43-2BDA-4EA8-8747-5193B5B38B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7A4B-F321-4AAA-BC08-C6A27DB88B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25F4-389B-4962-8D4B-EA2A439439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744C-D864-487B-8ECF-F6E9B65B79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238C-E934-48E4-8759-8F46A88757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DF4F-4465-4567-9C10-26B58834A0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4A91-C24D-4240-B75A-402E824C7E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06A9-492E-445B-A68B-949AF5251E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0AF2-44EC-431C-A944-43488A9EBC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8D72-2A34-4097-A152-6BA6E11F38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4D6B-C2B9-4DDC-A6BD-79FAD7E743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54F0-53B6-48C7-BB36-8787721B6D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4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576520" y="3233880"/>
            <a:ext cx="3990960" cy="39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619200" y="1371600"/>
            <a:ext cx="7905600" cy="41148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268360" y="3213000"/>
            <a:ext cx="339840" cy="257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997360" y="3706920"/>
            <a:ext cx="33948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780000" y="2708280"/>
            <a:ext cx="33948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500720" y="3213000"/>
            <a:ext cx="339480" cy="257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219640" y="3716280"/>
            <a:ext cx="339840" cy="2574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012000" y="2708280"/>
            <a:ext cx="33948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6732720" y="3213000"/>
            <a:ext cx="339480" cy="257400"/>
          </a:xfrm>
          <a:prstGeom prst="rect">
            <a:avLst/>
          </a:prstGeom>
          <a:ln w="0">
            <a:noFill/>
          </a:ln>
        </p:spPr>
      </p:pic>
      <p:pic>
        <p:nvPicPr>
          <p:cNvPr id="930" name="图片 60436" descr=""/>
          <p:cNvPicPr/>
          <p:nvPr/>
        </p:nvPicPr>
        <p:blipFill>
          <a:blip r:embed="rId9"/>
          <a:stretch/>
        </p:blipFill>
        <p:spPr>
          <a:xfrm>
            <a:off x="1268280" y="46594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31" name="图片 60437" descr=""/>
          <p:cNvPicPr/>
          <p:nvPr/>
        </p:nvPicPr>
        <p:blipFill>
          <a:blip r:embed="rId10"/>
          <a:stretch/>
        </p:blipFill>
        <p:spPr>
          <a:xfrm>
            <a:off x="3357720" y="46576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60438" descr=""/>
          <p:cNvPicPr/>
          <p:nvPr/>
        </p:nvPicPr>
        <p:blipFill>
          <a:blip r:embed="rId11"/>
          <a:stretch/>
        </p:blipFill>
        <p:spPr>
          <a:xfrm>
            <a:off x="542592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33" name="图片 60439" descr=""/>
          <p:cNvPicPr/>
          <p:nvPr/>
        </p:nvPicPr>
        <p:blipFill>
          <a:blip r:embed="rId12"/>
          <a:stretch/>
        </p:blipFill>
        <p:spPr>
          <a:xfrm>
            <a:off x="7380360" y="46483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34" name="图片 60440" descr=""/>
          <p:cNvPicPr/>
          <p:nvPr/>
        </p:nvPicPr>
        <p:blipFill>
          <a:blip r:embed="rId13"/>
          <a:stretch/>
        </p:blipFill>
        <p:spPr>
          <a:xfrm>
            <a:off x="1273320" y="50990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35" name="图片 60441" descr=""/>
          <p:cNvPicPr/>
          <p:nvPr/>
        </p:nvPicPr>
        <p:blipFill>
          <a:blip r:embed="rId14"/>
          <a:stretch/>
        </p:blipFill>
        <p:spPr>
          <a:xfrm>
            <a:off x="3348000" y="5094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36" name="图片 60442" descr=""/>
          <p:cNvPicPr/>
          <p:nvPr/>
        </p:nvPicPr>
        <p:blipFill>
          <a:blip r:embed="rId15"/>
          <a:stretch/>
        </p:blipFill>
        <p:spPr>
          <a:xfrm>
            <a:off x="5302080" y="50990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37" name="图片 60443" descr=""/>
          <p:cNvPicPr/>
          <p:nvPr/>
        </p:nvPicPr>
        <p:blipFill>
          <a:blip r:embed="rId16"/>
          <a:stretch/>
        </p:blipFill>
        <p:spPr>
          <a:xfrm>
            <a:off x="7380360" y="509436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9410" descr=""/>
          <p:cNvPicPr/>
          <p:nvPr/>
        </p:nvPicPr>
        <p:blipFill>
          <a:blip r:embed="rId1"/>
          <a:stretch/>
        </p:blipFill>
        <p:spPr>
          <a:xfrm>
            <a:off x="119160" y="2128680"/>
            <a:ext cx="8905680" cy="26006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684360" y="2800440"/>
            <a:ext cx="2232000" cy="25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611280" y="4149720"/>
            <a:ext cx="223200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8373" descr=""/>
          <p:cNvPicPr/>
          <p:nvPr/>
        </p:nvPicPr>
        <p:blipFill>
          <a:blip r:embed="rId1"/>
          <a:stretch/>
        </p:blipFill>
        <p:spPr>
          <a:xfrm>
            <a:off x="190440" y="790560"/>
            <a:ext cx="8763120" cy="52768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1258920" y="135108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43" name="图片 58375" descr=""/>
          <p:cNvPicPr/>
          <p:nvPr/>
        </p:nvPicPr>
        <p:blipFill>
          <a:blip r:embed="rId3"/>
          <a:stretch/>
        </p:blipFill>
        <p:spPr>
          <a:xfrm>
            <a:off x="966960" y="1747800"/>
            <a:ext cx="1655640" cy="3762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2987640" y="179244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5651640" y="2214720"/>
            <a:ext cx="339480" cy="257040"/>
          </a:xfrm>
          <a:prstGeom prst="rect">
            <a:avLst/>
          </a:prstGeom>
          <a:ln w="0">
            <a:noFill/>
          </a:ln>
        </p:spPr>
      </p:pic>
      <p:pic>
        <p:nvPicPr>
          <p:cNvPr id="946" name="图片 58378" descr=""/>
          <p:cNvPicPr/>
          <p:nvPr/>
        </p:nvPicPr>
        <p:blipFill>
          <a:blip r:embed="rId6"/>
          <a:stretch/>
        </p:blipFill>
        <p:spPr>
          <a:xfrm>
            <a:off x="965160" y="2658960"/>
            <a:ext cx="1655640" cy="3762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7"/>
          <a:stretch/>
        </p:blipFill>
        <p:spPr>
          <a:xfrm>
            <a:off x="2973240" y="270360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8"/>
          <a:stretch/>
        </p:blipFill>
        <p:spPr>
          <a:xfrm>
            <a:off x="4788000" y="3151080"/>
            <a:ext cx="339480" cy="257400"/>
          </a:xfrm>
          <a:prstGeom prst="rect">
            <a:avLst/>
          </a:prstGeom>
          <a:ln w="0">
            <a:noFill/>
          </a:ln>
        </p:spPr>
      </p:pic>
      <p:pic>
        <p:nvPicPr>
          <p:cNvPr id="949" name="图片 58381" descr=""/>
          <p:cNvPicPr/>
          <p:nvPr/>
        </p:nvPicPr>
        <p:blipFill>
          <a:blip r:embed="rId9"/>
          <a:stretch/>
        </p:blipFill>
        <p:spPr>
          <a:xfrm>
            <a:off x="966960" y="3557520"/>
            <a:ext cx="1655640" cy="3762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10"/>
          <a:stretch/>
        </p:blipFill>
        <p:spPr>
          <a:xfrm>
            <a:off x="2987640" y="360216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1"/>
          <a:stretch/>
        </p:blipFill>
        <p:spPr>
          <a:xfrm>
            <a:off x="1403280" y="522936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2"/>
          <a:stretch/>
        </p:blipFill>
        <p:spPr>
          <a:xfrm>
            <a:off x="3419640" y="5229360"/>
            <a:ext cx="339480" cy="2570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3"/>
          <a:stretch/>
        </p:blipFill>
        <p:spPr>
          <a:xfrm>
            <a:off x="6732720" y="5219640"/>
            <a:ext cx="339480" cy="2574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4"/>
          <a:stretch/>
        </p:blipFill>
        <p:spPr>
          <a:xfrm>
            <a:off x="900000" y="558972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5"/>
          <a:stretch/>
        </p:blipFill>
        <p:spPr>
          <a:xfrm>
            <a:off x="3708360" y="558972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6"/>
          <a:stretch/>
        </p:blipFill>
        <p:spPr>
          <a:xfrm>
            <a:off x="6227640" y="559908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7"/>
          <a:stretch/>
        </p:blipFill>
        <p:spPr>
          <a:xfrm>
            <a:off x="8513640" y="270828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8"/>
          <a:stretch/>
        </p:blipFill>
        <p:spPr>
          <a:xfrm>
            <a:off x="8388360" y="312264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9"/>
          <a:stretch/>
        </p:blipFill>
        <p:spPr>
          <a:xfrm>
            <a:off x="8494560" y="3500280"/>
            <a:ext cx="339840" cy="2574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0"/>
          <a:stretch/>
        </p:blipFill>
        <p:spPr>
          <a:xfrm>
            <a:off x="8388360" y="3933720"/>
            <a:ext cx="339840" cy="2574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1"/>
          <a:stretch/>
        </p:blipFill>
        <p:spPr>
          <a:xfrm>
            <a:off x="8513640" y="434988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2"/>
          <a:stretch/>
        </p:blipFill>
        <p:spPr>
          <a:xfrm>
            <a:off x="8504280" y="4743360"/>
            <a:ext cx="339840" cy="2574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3"/>
          <a:stretch/>
        </p:blipFill>
        <p:spPr>
          <a:xfrm>
            <a:off x="8504280" y="5157720"/>
            <a:ext cx="339840" cy="2574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4"/>
          <a:stretch/>
        </p:blipFill>
        <p:spPr>
          <a:xfrm>
            <a:off x="8604360" y="5589720"/>
            <a:ext cx="3394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33:54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